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829-C69F-492E-A878-B0599A87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D27A-809D-4127-A8C0-452BA86B0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B91-48D8-4F54-A269-803B8F642A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F30-7589-428C-A4A0-D9F0DEDAD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BD3-8343-426B-BC39-6CF83EA97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7F5-09B8-409F-89BA-884088C1A6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208-9570-4476-A57D-BEF7D4B7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39C-697D-4741-B370-D6FC48B3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612-2698-415D-8668-9B707351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C85-98CA-4F56-9379-7BBA4E77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D6E8-1AF8-4D83-987E-DCF7C216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69DA-B152-4B3F-A391-CB7799C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7C99-6A45-4AC5-BEF7-50AE24CD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D2F3-6759-4E80-A36C-C6A0241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A86B-24B7-486E-A39E-C4BCBC06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AD57-4945-4017-9B60-F33B9E6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290-7B36-4EE8-8BA8-1F1C70B2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B2F-FED6-4AB6-98E3-DD348DE4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C773-6563-4EF3-A46D-1642328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3602-D0CA-4094-B9DA-8A5E2051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5826-025E-4C2C-B526-305E6C7A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754C-7031-4B58-A28F-0C70D068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6C84-5E78-4251-825D-1728BD4F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7E5-9B8E-44F6-9C7C-0DD7F60D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DC4-DFF8-4CE9-9A26-BCC5A4B7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D67-6885-4B8A-BAAD-51CDE42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99E-576F-4956-B924-8673EB1A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E7F-294D-4350-8020-702AADEA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92D-CAB4-4774-8F8C-BC5223F0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85E-76FA-4A21-BBAA-C5779913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CB60-7464-4AED-9903-C250997F70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F7B-F76A-43A8-AE0B-04701A52615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w.umkc.edu/faculty/projects/FTrials/conlaw/supremebuilding.jpg&amp;imgrefurl=http://www.law.umkc.edu/faculty/projects/FTrials/conlaw/supremecourtintro.html&amp;usg=__NClfUeBPD1HRTZYdhIkg9xR8Wtk=&amp;h=359&amp;w=360&amp;sz=28&amp;hl=en&amp;start=1&amp;tbnid=-a3q2IKd90FnqM:&amp;tbnh=121&amp;tbnw=121&amp;prev=/images%3Fq%3Dcourt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sgv.org/atf/cf/%257B23E96A35-4C75-41EE-BDDD-4BD3A3B59010%257D/GAVEL_COURT.JPG&amp;imgrefurl=http://www.csgv.org/site/c.pmL5JnO7KzE/b.3509331/&amp;usg=__azBWbjaBz_yXfLf6UcVPvWxEYZY=&amp;h=860&amp;w=558&amp;sz=574&amp;hl=en&amp;start=3&amp;tbnid=xDrU5E2KY2E_NM:&amp;tbnh=145&amp;tbnw=94&amp;prev=/images%3Fq%3Dcour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rH5P9XSfZ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israel.org/Eng/_Uploads/180courtHammer.jpg&amp;imgrefurl=http://www.aisrael.org/Eng/Index.asp%3FArticleID%3D180%26CategoryID%3D60&amp;usg=__H-8x1BduxpfkM9Wyf_OcCx0HYLk=&amp;h=300&amp;w=403&amp;sz=26&amp;hl=en&amp;start=20&amp;tbnid=l0l6yFu8SJ3_oM:&amp;tbnh=92&amp;tbnw=124&amp;prev=/images%3Fq%3Dcourt%26gbv%3D2%26ndsp%3D18%26hl%3Den%26sa%3DN%26start%3D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lipart.peirceinternet.com/png/schoolhouse1.png&amp;imgrefurl=http://clipart.peirceinternet.com/educ.html&amp;usg=__fF-BrF9KRxJvTkzTKH4cKYsUnrk=&amp;h=331&amp;w=361&amp;sz=18&amp;hl=en&amp;start=13&amp;tbnid=J50M7FHvdr8NIM:&amp;tbnh=111&amp;tbnw=121&amp;prev=/images%3Fq%3Dschool%2Bhouse%26gbv%3D2%26hl%3De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2770200" y="45720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Religion in the Public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533520" y="9144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ublic Schools may not inculcate nor inhibit religion.  Schools must be places where religion and religious conviction are treated with fairness and respect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33520" y="2413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ongress shall make no law respecting an establishment of religion, or prohibiting the free exercise thereof, or abridging the freedom of speech, or of the press; or the right of the people peaceably to assemble, and to petition the government for a redress of grievan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0080" y="1981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First Amend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8580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have a secular purpos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have the principal or primary effect o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dvanc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nhibi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foster an excessive entanglement of government with relig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85800" y="3657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Lemon v. Kurtzman    (Lemon Tes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http://tbn2.google.com/images?q=tbn:-a3q2IKd90FnqM:http://www.law.umkc.edu/faculty/projects/FTrials/conlaw/supremebuild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4572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anta Fe Independent School District v. Doe 530 U. S. 290 (2000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Court ruled prayer over a loudspeaker at a government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ponsored even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government property (football game on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istrict property) is a violation of the Establishment Cl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74200" y="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.  Student Pray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09480" y="2274840"/>
            <a:ext cx="81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ablishment Clause does not prohibit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rely priv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us spee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 may read Bibles, say grace, say prayer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ytime it is not disruptive to the learning pro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 gatherings are ok (Meet at Pol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 may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neither discourage or encou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17524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tudent Prayer and  Religious Discus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33520" y="3962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2.  Graduation Prayers and 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3520" y="4495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e v. Weisman 505 U. S. 577 (199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uled graduation prayers unconstitu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40000" y="54100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57200" y="5934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chool may not extend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eferent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reatment to baccalaureate ceremonies and may in some instances be obligated to disclaim official endorsement of such ceremonie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2" descr="http://tbn0.google.com/images?q=tbn:xDrU5E2KY2E_NM:http://www.csgv.org/atf/cf/%257B23E96A35-4C75-41EE-BDDD-4BD3A3B59010%257D/GAVEL_COU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5211720"/>
            <a:ext cx="1066680" cy="16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533520" y="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3.  Participation in or Encouragement of Religious 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457200"/>
            <a:ext cx="77724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eachers and school administrators or employees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acting in those capacities,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are representatives of the sta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are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prohibi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y the establishment claus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rom soliciting or encouragin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ligious activity, and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from participa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such activity with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447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loyees also are prohibited from discouraging activity because of its religious content, and from soliciting or encouraging anti-religious activi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23440" y="243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4.  Religion in School Curricul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2895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eligion is a natural part of history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is included in the approved some stat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the topic is addressed,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hasis must be purely acade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not devotio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y teach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its influence on areas such as art, music, literature, and social stud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57200" y="4572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5. Religious Content in Student Assign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09480" y="51037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may express their beliefs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the form of homework, artwork, and other written and oral assignments free of discrimination based on the religious content of their submis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ch home and classroom work should be judged by ordinary academic standards of substance and relevance and against other legitimate pedagogical concerns identified by the scho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USA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990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3733920" y="1981080"/>
            <a:ext cx="32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ahoma"/>
              </a:rPr>
              <a:t>Click on the flag if you wish to hear about a teacher who crossed the boundary with religion in his classro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85800" y="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6. Distribution of  Religious Litera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09480" y="609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enerally shall not permit formal distribu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f any materials from any non-school organization, regardless of the content of the materia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n school proper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 Accordingly, students generally should not distribute flyers to all students on a mass level at specific established locations at the school.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can distribute information on an informal basis that is not disrup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9480" y="2438280"/>
            <a:ext cx="8077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have a right to distribute religious literature to their schoolmates on the same terms as they are permitted to distribute other literatu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at is unrelated to school curriculum or activities.  Schools may impose reasonable time, place, and manner on distribution of religious literature as they do on nonschool literature general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09480" y="4114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7.  Student Participation in Religious Events Before and After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85800" y="4800600"/>
            <a:ext cx="7620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re is no legal reason not to allow students to participate in religious events “before and after school,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do not interfere with instructional time or the educational proc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http://tbn2.google.com/images?q=tbn:l0l6yFu8SJ3_oM:http://www.aisrael.org/Eng/_Uploads/180courtHamm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670720"/>
            <a:ext cx="213336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http://tbn0.google.com/images?q=tbn:J50M7FHvdr8NIM:http://clipart.peirceinternet.com/png/schoolhouse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91640" y="4648320"/>
            <a:ext cx="1152360" cy="1057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45720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hough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blic schools may teach about religious holiday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including their religious aspects, and may celebrate the secular aspects of holiday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s may not observe holidays as religious ev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promote such observance by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84200" y="3049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8.  Religious Holid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33520" y="255096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ject to applicable State law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 Boards may allow religious instruction off school propert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f allowed, schools may not encourage or discourage participation or penalize those who do att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06520" y="213372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9. Released Time for Religious Instr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520" y="4419720"/>
            <a:ext cx="82296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nerally, if secondary public schools have a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imited open foru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(allows non-curriculum clubs to meet), the school must allow religious groups the same access to the school media, (PA system, school newspaper, bulletin board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92120" y="3733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0.  Federal Equal Access 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" descr="http://tbn0.google.com/images?q=tbn:mK8Yl1MTUiuAAM:http://www.easymilano.com/wp/wp-content/uploads/2009/04/us-flag.jpg"/>
          <p:cNvPicPr/>
          <p:nvPr/>
        </p:nvPicPr>
        <p:blipFill>
          <a:blip r:embed="rId3"/>
          <a:stretch/>
        </p:blipFill>
        <p:spPr>
          <a:xfrm>
            <a:off x="4419720" y="5562720"/>
            <a:ext cx="1181160" cy="88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57:45Z</dcterms:created>
  <dc:creator>Human Resources</dc:creator>
  <dc:description/>
  <dc:language>en-US</dc:language>
  <cp:lastModifiedBy>jshearer</cp:lastModifiedBy>
  <dcterms:modified xsi:type="dcterms:W3CDTF">2009-07-02T20:44:50Z</dcterms:modified>
  <cp:revision>63</cp:revision>
  <dc:subject/>
  <dc:title>S. C. Code Ann. 59-17-140</dc:title>
</cp:coreProperties>
</file>